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5F8E-69A1-4542-BFB7-E9FC9A98F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ětská práce, město Sa Pa, severozápadní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E13-EC49-483F-981B-61E4B3713B25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slední zbytky dřeva ke zpracování z pralesa, Indragiri Hulu, Sumatra, Indonés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ůvod: pěstování palmy olej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359C-AD17-4EAC-A7CB-DA212E8ECF08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označení ruští vojáci na stráži, mezinárodní letiště Simferopol, Ukrajina, 28. února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A320-4903-4C18-8E3D-CF9B68777157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ebrající žena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6D7-AE58-4F16-994A-51CBE4CC5638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testy proti potlačování Kurdů, Istanbul, Turecko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F211-A7CB-41C5-97ED-924BA577DFDB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Źáci základní školy během výuky, Uganda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8399-7E5D-4CF4-BC5D-AC87179FE5EB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EF0-C518-4F7A-AC86-2740B7A4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073-271F-41A1-B6EA-9A26060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0F3-02BE-4EA1-BEDA-61C347A8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B6F-86FB-4495-9E38-9DB12FC5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E4B-DD38-4C33-8017-24483B65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4B8-540A-4AA8-BFDC-6EF39775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EB4-55A4-49B9-8D30-E7CB5428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BE1-7FFA-4A3D-B620-F9150BBF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A55-F9BB-47BF-9585-DD35D20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E2A-3FE2-40D1-AC75-ED9F8A5F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52E-21A6-42EA-802E-9B25E45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5D3-0A2E-46F3-893C-A538BFC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8C69-F42E-4F2F-A361-1F9321C6FB73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5" descr="C:\Users\Arpok\Desktop\Dětská práce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4" descr="C:\Users\Arpok\Desktop\deforestrace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5" descr="C:\Users\Arpok\Desktop\Bezpečnost ve světě.jpg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Zástupný symbol pro obsah 4" descr=""/>
          <p:cNvPicPr/>
          <p:nvPr/>
        </p:nvPicPr>
        <p:blipFill>
          <a:blip r:embed="rId1"/>
          <a:stretch/>
        </p:blipFill>
        <p:spPr>
          <a:xfrm>
            <a:off x="23274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Zástupný symbol pro obsah 5" descr=""/>
          <p:cNvPicPr/>
          <p:nvPr/>
        </p:nvPicPr>
        <p:blipFill>
          <a:blip r:embed="rId1"/>
          <a:stretch/>
        </p:blipFill>
        <p:spPr>
          <a:xfrm>
            <a:off x="-3240" y="260280"/>
            <a:ext cx="914724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Zástupný symbol pro obsah 6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Bezpečnost: ARROTT, Elizabeth. VOICE OF AMERICA. </a:t>
            </a:r>
            <a:r>
              <a:rPr b="0" i="1" lang="cs-CZ" sz="1400" spc="-1" strike="noStrike">
                <a:solidFill>
                  <a:srgbClr val="ffffff"/>
                </a:solidFill>
                <a:latin typeface="Calibri"/>
              </a:rPr>
              <a:t>VOA-Crimea-Simferopol-airport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2014-02-28. Dostupné z: http://en.wikipedia.org/wiki/2014_Russian_military_intervention_in_Ukraine#mediaviewer/File:VOA-Crimea-Simferopol-airport.jpg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Dětská práce: HULLOT, Jean-Marie. </a:t>
            </a:r>
            <a:r>
              <a:rPr b="0" i="1" lang="cs-CZ" sz="1400" spc="-1" strike="noStrike">
                <a:solidFill>
                  <a:srgbClr val="ffffff"/>
                </a:solidFill>
                <a:latin typeface="Calibri"/>
              </a:rPr>
              <a:t>Sa Pa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Fotopedia, 2008-06-14. Dostupné z: </a:t>
            </a:r>
            <a:r>
              <a:rPr b="0" lang="cs-CZ" sz="1400" spc="-1" strike="noStrike" u="sng">
                <a:solidFill>
                  <a:srgbClr val="ffffff"/>
                </a:solidFill>
                <a:uFillTx/>
                <a:latin typeface="Calibri"/>
              </a:rPr>
              <a:t>http://www.fotopedia.com/items/jmhullot-6b54f67c75a35c16b33824cbdb753be8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Poškozování životního prostředí</a:t>
            </a:r>
            <a:r>
              <a:rPr b="0" i="1" lang="cs-CZ" sz="1400" spc="-1" strike="noStrike">
                <a:solidFill>
                  <a:srgbClr val="ffffff"/>
                </a:solidFill>
                <a:latin typeface="Calibri"/>
              </a:rPr>
              <a:t>: Riau deforestation 2006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Fotopedia, 2008-06-14. Dostupné z: http://www.fotopedia.com/items/jmhullot-6b54f67c75a35c16b33824cbdb753be8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Lidská práva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uman Rights Watch Accuses Turkey of Using Terrorism Laws to Oppress Kurds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Asbarez.com. 2010-11-01. Dostupné z:  http://asbarez.com/87797/human-rights-watch-accuses-turkey-of-using-terrorism-laws-to-oppress-kurds/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Chudoba: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fficial U.S. Poverty Rate Remains High, Middle Class Incomes Decline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8PAK.com. 2012-12-09. Dostupné z:  http://8pak.com/?p=298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Vzdělání: Feltjournalistene. Wordpress.com, 2012-06-01. Dostupné z: http://feltjournalistene.wordpress.com/2012/06/01/tanzania-13-and-pregnant/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7:51:57Z</dcterms:created>
  <dc:creator>Arpok</dc:creator>
  <dc:description/>
  <dc:language>en-US</dc:language>
  <cp:lastModifiedBy>Arpok</cp:lastModifiedBy>
  <dcterms:modified xsi:type="dcterms:W3CDTF">2014-09-08T12:21:04Z</dcterms:modified>
  <cp:revision>22</cp:revision>
  <dc:subject/>
  <dc:title>Prezentace aplikace PowerPoint</dc:title>
</cp:coreProperties>
</file>