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459-2C57-466A-9BAB-DB15E2766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ětská práce, město Sa Pa, severozápadní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BFC-6257-4D75-ACEE-4A4FC21AC4F8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slední zbytky dřeva ke zpracování z pralesa, Indragiri Hulu, Sumatra, Indonés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ůvod: pěstování palmy olej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969B-AE75-4CBE-A93F-39985AE254D0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označení ruští vojáci na stráži, mezinárodní letiště Simferopol, Ukrajina, 28. února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181-4F73-42DB-9EEF-E1AA49D290D6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Žebrající žena,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C5F-0F18-4962-9B06-BE7AAB9C28DE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testy proti potlačování Kurdů, Istanbul, Turecko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0887-9B41-412A-9610-EA9EEEEC23A0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Źáci základní školy během výuky, Uganda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551F-1147-4A39-BB4E-83EE158806F0}" type="slidenum">
              <a:rPr b="0" lang="cs-CZ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9C3-F37A-4D4C-AA60-49AD8218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C8C-AC61-4F19-8408-21F8DB4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5A2-E576-4926-B3D4-8A353E52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69F-9227-4B89-AD7A-E10FD55C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2E9-4438-40CF-8F23-04C5FE1B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CA7-FB59-46D2-A0E7-32B1D26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1C3-6AA9-4114-912A-2659469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216-2833-4264-8B73-ED01A23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235-856E-4A4F-95A8-FF44CA6B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C6D-D5C9-4AA3-BB64-BC3C4DF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FAC-B5A8-42B1-BA7B-B0C8366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F9A-FD4C-45C3-9C43-0B594EC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CD62-DE35-4A2F-B73A-1ACE83C31B0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5" descr="C:\Users\Arpok\Desktop\Dětská práce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4" descr="C:\Users\Arpok\Desktop\deforestrac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5" descr="C:\Users\Arpok\Desktop\Bezpečnost ve světě.jpg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Zástupný symbol pro obsah 4" descr=""/>
          <p:cNvPicPr/>
          <p:nvPr/>
        </p:nvPicPr>
        <p:blipFill>
          <a:blip r:embed="rId1"/>
          <a:stretch/>
        </p:blipFill>
        <p:spPr>
          <a:xfrm>
            <a:off x="232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Zástupný symbol pro obsah 5" descr=""/>
          <p:cNvPicPr/>
          <p:nvPr/>
        </p:nvPicPr>
        <p:blipFill>
          <a:blip r:embed="rId1"/>
          <a:stretch/>
        </p:blipFill>
        <p:spPr>
          <a:xfrm>
            <a:off x="-3240" y="260280"/>
            <a:ext cx="914724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Zástupný symbol pro obsah 6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Bezpečnost: ARROTT, Elizabeth. VOICE OF AMERICA. 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VOA-Crimea-Simferopol-airport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2014-02-28. Dostupné z: http://en.wikipedia.org/wiki/2014_Russian_military_intervention_in_Ukraine#mediaviewer/File:VOA-Crimea-Simferopol-airport.jpg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Dětská práce: HULLOT, Jean-Marie. 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Sa Pa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Fotopedia, 2008-06-14. Dostupné z: </a:t>
            </a:r>
            <a:r>
              <a:rPr b="0" lang="cs-CZ" sz="1400" spc="-1" strike="noStrike" u="sng">
                <a:solidFill>
                  <a:srgbClr val="ffffff"/>
                </a:solidFill>
                <a:uFillTx/>
                <a:latin typeface="Calibri"/>
              </a:rPr>
              <a:t>http://www.fotopedia.com/items/jmhullot-6b54f67c75a35c16b33824cbdb753be8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Poškozování životního prostředí</a:t>
            </a:r>
            <a:r>
              <a:rPr b="0" i="1" lang="cs-CZ" sz="1400" spc="-1" strike="noStrike">
                <a:solidFill>
                  <a:srgbClr val="ffffff"/>
                </a:solidFill>
                <a:latin typeface="Calibri"/>
              </a:rPr>
              <a:t>: Riau deforestation 2006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Fotopedia, 2008-06-14. Dostupné z: http://www.fotopedia.com/items/jmhullot-6b54f67c75a35c16b33824cbdb753be8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Lidská práva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uman Rights Watch Accuses Turkey of Using Terrorism Laws to Oppress Kurds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Asbarez.com. 2010-11-01. Dostupné z:  http://asbarez.com/87797/human-rights-watch-accuses-turkey-of-using-terrorism-laws-to-oppress-kurds/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Chudoba: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fficial U.S. Poverty Rate Remains High, Middle Class Incomes Decline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. 8PAK.com. 2012-12-09. Dostupné z:  http://8pak.com/?p=298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Vzdělání: Feltjournalistene. Wordpress.com, 2012-06-01. Dostupné z: http://feltjournalistene.wordpress.com/2012/06/01/tanzania-13-and-pregnant/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7:51:57Z</dcterms:created>
  <dc:creator>Arpok</dc:creator>
  <dc:description/>
  <dc:language>en-US</dc:language>
  <cp:lastModifiedBy>Arpok</cp:lastModifiedBy>
  <dcterms:modified xsi:type="dcterms:W3CDTF">2014-09-08T12:21:04Z</dcterms:modified>
  <cp:revision>22</cp:revision>
  <dc:subject/>
  <dc:title>Prezentace aplikace PowerPoint</dc:title>
</cp:coreProperties>
</file>